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type.wav" ContentType="audio/x-wav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0DE-E3A7-499A-B6E7-071659F0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9D9-0584-4BFC-84C9-DEF8023E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124-97E1-4B4D-912D-88FED5A1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ADD-783D-4583-A47B-2440EA1E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5F90-848B-480B-956A-12681E93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6721-3578-4B54-BF79-23E23E05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82BD-38C7-4FE6-8B09-1F3A5CE3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883C-582C-445B-82EB-D0C546CE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B476-7E2C-4D5A-BF58-8D84E0F6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A3C3-364C-4A21-AAAA-E8E6C1EF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B808-5229-4077-BD41-9D030684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E78-E40A-4CED-A966-77FA0E51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4760-4462-440F-9DB1-7152A24E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6990-DDA7-41AF-B4B6-50389A7D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B219-1D06-46BD-B1AB-73E3D775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4697-1166-4427-9340-47855570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93F3-4A71-4CF6-A799-2DEC3DEB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CF2-A013-4BE1-84DF-E75FBDEB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C24-3BDA-455B-A189-FC821F5E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D80-B157-429D-BC89-F17EB818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B28-FEE7-4967-96F8-7739DF72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9B3-D60D-4422-A2EE-890424CB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EFA-B947-401D-90CC-93949462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C0A-ADF3-4ACB-849A-10D94C78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B512-B8E4-4FB1-9425-52B74110032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BC7E-0C2D-439F-A76A-83C527B9C28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495680" y="4267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乐成一小     黄赛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600200"/>
            <a:ext cx="7543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有效转化后进生的途径与方法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763120" y="6019920"/>
            <a:ext cx="1047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6611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3880" y="304920"/>
            <a:ext cx="7010640" cy="44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二）、学校原因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、学习遭受挫折后，教师却诸多责骂，使其丧失了学习信心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、某些爱好、特长受到压抑，使其丧失了对自我价值的肯定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、学校采取的有些管理手段严重地伤害了后进生的自尊。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19320" y="380880"/>
            <a:ext cx="76197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三）、社会原因 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、市场经济的负面影响，青少年失去了正确的价值观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、急功近利的价值取向，影响了对青少年培养的投入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、消费文化的影响是巨大的，其负面的、消极的方面对青少年的危害更大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828800" y="7621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转化后进生的基本要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914400"/>
            <a:ext cx="228600" cy="3049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81080"/>
            <a:ext cx="6629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、建立感情基础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、尊重人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、组织教育合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、调动后进生自身的积极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、运用班集体的力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438280" y="380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隶书"/>
              </a:rPr>
              <a:t>案例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380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ff00"/>
                </a:solidFill>
                <a:uFillTx/>
                <a:latin typeface="Times New Roman"/>
                <a:ea typeface="幼圆"/>
              </a:rPr>
              <a:t>声声唤尔归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990720"/>
            <a:ext cx="73911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思考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、相信每个老师都遇到过像王萌这样的学生，你是怎么做的呢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A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严厉批评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+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说服教育 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B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任其自然，无视他的存在 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C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体罚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+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请家长 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D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其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、你认为老师对王萌会采取什么办法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A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令其退学 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B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亲自监督 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C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成立学习小组帮助他 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D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发动全体同学帮助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685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启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1447920"/>
            <a:ext cx="685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只要老师对孩子有足够的耐心和真诚的爱心，再加上有效的教育方法，孩子就有希望克服自己的不足。这就是说，别对孩子失去希望，没有教育不好的孩子，只有不会教育的老师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28800" y="7621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转化后进生的主要方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914400"/>
            <a:ext cx="304560" cy="38088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1828800"/>
            <a:ext cx="62485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重视新开端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抓住闪光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针对个性特点，选择突破口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针对后进生心理特点，开展工作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逐步开发后进生的智力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成立帮教小组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讲究批评的艺术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00200" y="990720"/>
            <a:ext cx="6934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爱是教育人的前提和根本。我国近代教育家夏丐尊先生说过，没有爱，就没有教育。教师只要满腔热情地关心学生，真心实意地帮助学生，就能发现他们心中的锁簧，从而找到打开锁簧的钥匙，只有对每一位学生倾注教师的全“心”，才能使教育成为一种真正意义上的教育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8380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隶书"/>
              </a:rPr>
              <a:t>我们要记住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2133720"/>
            <a:ext cx="678168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教育——首先是关怀备至地、深思熟虑地、小心翼翼地去触及那幼小的心灵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                     ——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苏霍姆林斯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895480" y="2209680"/>
            <a:ext cx="350532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楷体_GB2312"/>
              </a:rPr>
              <a:t>再见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1995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66116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495680" y="4267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乐成一小     黄赛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220968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有效转化后进生的途径与方法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00200" y="6094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隶书"/>
              </a:rPr>
              <a:t>题 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7524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别让那些不幸地被大自然或不良环境造成艰难境遇的孩子，知道他们能力低，智力弱。教育这些孩子，要比教育正常儿童付出百倍的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耐心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细心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同情心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                  ——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苏霍姆林斯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533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案例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5335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aeaea"/>
                </a:solidFill>
                <a:uFillTx/>
                <a:latin typeface="Times New Roman"/>
                <a:ea typeface="幼圆"/>
              </a:rPr>
              <a:t>春风化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1371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背景材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开学时接任一个新班级没几天，阎老师无意中发现不少男生头发很长。过去遇到这种情况时，常常是大声呵斥、当面指出，但效果往往不佳。现在，阎老师琢磨用什么办法劝告他们，帮助他们真正从思想上提高认识。终于，阎老师想出了一种合适而又有效的教育方法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8380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aeaea"/>
                </a:solidFill>
                <a:uFillTx/>
                <a:latin typeface="Times New Roman"/>
                <a:ea typeface="隶书"/>
              </a:rPr>
              <a:t>案例分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3623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无痕教育…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3880" y="914400"/>
            <a:ext cx="7239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启示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eaeaea"/>
                </a:solidFill>
                <a:latin typeface="仿宋_GB2312"/>
                <a:ea typeface="仿宋_GB2312"/>
              </a:rPr>
              <a:t>作为育人的学校，作为育人的老师，面对有过错的学生，面对犯了错甚至自己还不知错在何处的孩子，你是怎样对待的呢？阎老师和那位母亲的“无痕教育”不正是我们所追求的吗？ 它既是一种教育方式，更是一种教育技巧，要达到教育的“无痕”境界，不难追求，但却需要教师的细心、耐心与爱心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00200" y="8380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对转化后进生问题的基本认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914400"/>
            <a:ext cx="304560" cy="45720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600200"/>
            <a:ext cx="678168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一、后进生的概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在教育词典中对“后进生”是这样定义的：在班级中经常违反道德原则，或者犯有严重过错的学生。他们常常表现为思想觉悟低，不遵守纪律，不能完成学习任务。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6386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5105520"/>
            <a:ext cx="381240" cy="304560"/>
          </a:xfrm>
          <a:prstGeom prst="diamond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5105520"/>
            <a:ext cx="380880" cy="304560"/>
          </a:xfrm>
          <a:prstGeom prst="diamond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5105520"/>
            <a:ext cx="380880" cy="304560"/>
          </a:xfrm>
          <a:prstGeom prst="diamond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5029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相对性        复杂性        片面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219320" y="304920"/>
          <a:ext cx="7848360" cy="6592680"/>
        </p:xfrm>
        <a:graphic>
          <a:graphicData uri="http://schemas.openxmlformats.org/drawingml/2006/table">
            <a:tbl>
              <a:tblPr/>
              <a:tblGrid>
                <a:gridCol w="1336680"/>
                <a:gridCol w="1177920"/>
                <a:gridCol w="1143000"/>
                <a:gridCol w="1711080"/>
                <a:gridCol w="1108080"/>
                <a:gridCol w="1371600"/>
              </a:tblGrid>
              <a:tr h="13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级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被调查学生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后进生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后进生比例</a:t>
                      </a: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其中男女生比例（</a:t>
                      </a: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一年级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9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.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男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77.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女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2.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二年级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32  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.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男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70.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5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女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9.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三年级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9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2.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男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70.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女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9.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四年级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1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2.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男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女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五年级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8.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男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8.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女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1.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-439560" y="3657600"/>
            <a:ext cx="127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调查发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52480" y="5335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后进生产生的原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685800"/>
            <a:ext cx="228600" cy="38088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295280"/>
            <a:ext cx="739116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一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家庭原因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5360" indent="-4953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、 父母的综合素质水平不足以指导、教育孩子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5360" indent="-4953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、 两代人之间存在着代沟，相互之间的沟通困难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5360" indent="-4953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、 父母没有尽到监护人的职责，疏于管教和关心孩子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5360" indent="-4953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08:35:11Z</dcterms:created>
  <dc:creator>Administrator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2:16Z</dcterms:modified>
  <cp:revision>49</cp:revision>
  <dc:subject>主题班会课件(分28大类): http://shop62905894.taobao.com</dc:subject>
  <dc:title>主题班会课件(分28大类): http://shop62905894.taobao.com</dc:title>
</cp:coreProperties>
</file>